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y%20Did%20You%20Do%20That.wav" ContentType="audio/x-wav"/>
  <Override PartName="/ppt/media/image5.png" ContentType="image/png"/>
  <Override PartName="/ppt/media/image2.gif" ContentType="image/gif"/>
  <Override PartName="/ppt/media/image8.jpeg" ContentType="image/jpeg"/>
  <Override PartName="/ppt/media/image7.png" ContentType="image/png"/>
  <Override PartName="/ppt/media/image9.jpeg" ContentType="image/jpeg"/>
  <Override PartName="/ppt/media/tbesxt.wav" ContentType="audio/x-wav"/>
  <Override PartName="/ppt/media/yeahbaby.wav" ContentType="audio/x-wav"/>
  <Override PartName="/ppt/media/image1.png" ContentType="image/png"/>
  <Override PartName="/ppt/media/chimes.wav" ContentType="audio/x-wav"/>
  <Override PartName="/ppt/media/toldme.wav" ContentType="audio/x-wav"/>
  <Override PartName="/ppt/media/applause.wav" ContentType="audio/x-wav"/>
  <Override PartName="/ppt/media/image6.jpeg" ContentType="image/jpeg"/>
  <Override PartName="/ppt/media/laser.wav" ContentType="audio/x-wav"/>
  <Override PartName="/ppt/media/image4.png" ContentType="image/png"/>
  <Override PartName="/ppt/media/frogcroak.wav" ContentType="audio/x-wav"/>
  <Override PartName="/ppt/media/image3.wmf" ContentType="image/x-wmf"/>
  <Override PartName="/ppt/media/Fanfare3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8B1-B55B-4F1C-A3EF-16DDBA89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E23-7F33-417E-839D-01DBC3EE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E93-298F-4FE6-BB84-B40C7384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E94-410E-4BAA-BB6A-AB7D8B6F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9A8-DC02-4F6C-89DE-860C8B2D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AC9-5F8F-4BD2-B5DA-A251F2D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C0D8-A74C-4580-868E-0274899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3DD6-EE10-4FA9-B640-12201EF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61B-DC3F-45E6-A477-58D4127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CF4C-3F1E-4848-91CF-F55965E6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39A-8EA1-4256-8D51-16EF90C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BA5-9F1D-4B13-A9CA-11964981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BE55-BDA0-44CC-81AF-9E4995A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FAEC-9DD4-4CC0-AD25-A95797D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0EEC-23AC-4916-817A-7D919CF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94D4-4C22-4E8A-91E8-D26462B6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343A-89D6-437D-A2F5-E12A7B0B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DD7-45BA-4CE1-A26D-5FCB8495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D7C-B2B8-484F-A134-7838953D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357-A9E9-4A1E-AB5B-1316AF8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EB2-CE89-409A-957F-745AA5D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3E5-B087-4B19-84F6-3411D6B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7FC-A0AD-4B69-A894-665D263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E74-E69F-4809-9E8F-7BBA1BF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20B6-7C6A-498C-BEFE-D27785CE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58F-67D3-410E-A4FB-EE395026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Fanfare3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Why%20Did%20You%20Do%20Th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besx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frogcroa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toldm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ssa Haden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Wall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838080" y="228600"/>
            <a:ext cx="7696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ris and Walter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cc0000"/>
                </a:solidFill>
                <a:latin typeface="Verdana"/>
              </a:rPr>
              <a:t>beautiful</a:t>
            </a:r>
            <a:r>
              <a:rPr b="0" lang="en-US" sz="1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041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85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Someone   ate the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3962520"/>
            <a:ext cx="4496040" cy="99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32000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one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 ate the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pple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Apple6"/>
          <p:cNvPicPr/>
          <p:nvPr/>
        </p:nvPicPr>
        <p:blipFill>
          <a:blip r:embed="rId2"/>
          <a:stretch/>
        </p:blipFill>
        <p:spPr>
          <a:xfrm>
            <a:off x="6629400" y="533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Will you be my     friend     ?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62120" y="4648320"/>
            <a:ext cx="510516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Verdana"/>
              </a:rPr>
              <a:t>Will you be my     </a:t>
            </a:r>
            <a:r>
              <a:rPr b="0" lang="en-US" sz="11300" spc="-1" strike="noStrike">
                <a:solidFill>
                  <a:srgbClr val="cc0000"/>
                </a:solidFill>
                <a:latin typeface="Verdana"/>
              </a:rPr>
              <a:t>friend</a:t>
            </a:r>
            <a:r>
              <a:rPr b="0" lang="en-US" sz="1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bearheartpic"/>
          <p:cNvPicPr/>
          <p:nvPr/>
        </p:nvPicPr>
        <p:blipFill>
          <a:blip r:embed="rId2"/>
          <a:stretch/>
        </p:blipFill>
        <p:spPr>
          <a:xfrm>
            <a:off x="5410080" y="533520"/>
            <a:ext cx="327672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Look at the word carefully as it flashes on the screen and then we will spell it together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1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t the words one time as they appear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i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Verdana"/>
              </a:rPr>
              <a:t>somewhere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ckey say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mickeyl"/>
          <p:cNvPicPr/>
          <p:nvPr/>
        </p:nvPicPr>
        <p:blipFill>
          <a:blip r:embed="rId2"/>
          <a:stretch/>
        </p:blipFill>
        <p:spPr>
          <a:xfrm>
            <a:off x="1295280" y="2743200"/>
            <a:ext cx="2900520" cy="3314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4572000" y="1676520"/>
            <a:ext cx="4114800" cy="1447560"/>
          </a:xfrm>
          <a:prstGeom prst="wedgeEllipseCallout">
            <a:avLst>
              <a:gd name="adj1" fmla="val -55750"/>
              <a:gd name="adj2" fmla="val 107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029200" y="2057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reat job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country    .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7200" y="3733920"/>
            <a:ext cx="396252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usa"/>
          <p:cNvPicPr/>
          <p:nvPr/>
        </p:nvPicPr>
        <p:blipFill>
          <a:blip r:embed="rId2"/>
          <a:stretch/>
        </p:blipFill>
        <p:spPr>
          <a:xfrm>
            <a:off x="5715000" y="3878280"/>
            <a:ext cx="3124080" cy="173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NITEDSTATES1"/>
          <p:cNvPicPr/>
          <p:nvPr/>
        </p:nvPicPr>
        <p:blipFill>
          <a:blip r:embed="rId3"/>
          <a:stretch/>
        </p:blipFill>
        <p:spPr>
          <a:xfrm>
            <a:off x="6095880" y="152280"/>
            <a:ext cx="18543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e United States of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America is a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0000"/>
                </a:solidFill>
                <a:latin typeface="Verdana"/>
              </a:rPr>
              <a:t>country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usa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NITEDSTATES1"/>
          <p:cNvPicPr/>
          <p:nvPr/>
        </p:nvPicPr>
        <p:blipFill>
          <a:blip r:embed="rId3"/>
          <a:stretch/>
        </p:blipFill>
        <p:spPr>
          <a:xfrm>
            <a:off x="6705720" y="228600"/>
            <a:ext cx="18540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Verdana"/>
              </a:rPr>
              <a:t>I know I put that frog somewhere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4419720"/>
            <a:ext cx="5791320" cy="1371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3200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I know I put that frog </a:t>
            </a:r>
            <a:r>
              <a:rPr b="0" lang="en-US" sz="7500" spc="-1" strike="noStrike">
                <a:solidFill>
                  <a:srgbClr val="cc0000"/>
                </a:solidFill>
                <a:latin typeface="Verdana"/>
              </a:rPr>
              <a:t>somewhere</a:t>
            </a:r>
            <a:r>
              <a:rPr b="0" lang="en-US" sz="6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3" descr="BookBag02"/>
          <p:cNvPicPr/>
          <p:nvPr/>
        </p:nvPicPr>
        <p:blipFill>
          <a:blip r:embed="rId2"/>
          <a:stretch/>
        </p:blipFill>
        <p:spPr>
          <a:xfrm>
            <a:off x="5943600" y="304920"/>
            <a:ext cx="2317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Please go to the  front  of the line.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66880" y="4038480"/>
            <a:ext cx="3733920" cy="1067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lease go to the </a:t>
            </a:r>
            <a:r>
              <a:rPr b="0" lang="en-US" sz="8800" spc="-1" strike="noStrike">
                <a:solidFill>
                  <a:srgbClr val="cc0000"/>
                </a:solidFill>
                <a:latin typeface="Verdana"/>
              </a:rPr>
              <a:t>front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of the line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geokidsx"/>
          <p:cNvPicPr/>
          <p:nvPr/>
        </p:nvPicPr>
        <p:blipFill>
          <a:blip r:embed="rId2"/>
          <a:stretch/>
        </p:blipFill>
        <p:spPr>
          <a:xfrm>
            <a:off x="762120" y="22860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14800" y="3352680"/>
            <a:ext cx="76320" cy="76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Our teacher is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Verdana"/>
              </a:rPr>
              <a:t>beautiful     !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Picture1"/>
          <p:cNvPicPr/>
          <p:nvPr/>
        </p:nvPicPr>
        <p:blipFill>
          <a:blip r:embed="rId2"/>
          <a:stretch/>
        </p:blipFill>
        <p:spPr>
          <a:xfrm>
            <a:off x="6095880" y="152280"/>
            <a:ext cx="2233800" cy="266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09480" y="4191120"/>
            <a:ext cx="6400800" cy="1295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24:07Z</dcterms:created>
  <dc:creator>WebMaster</dc:creator>
  <dc:description/>
  <dc:language>en-US</dc:language>
  <cp:lastModifiedBy>Laura McDow</cp:lastModifiedBy>
  <dcterms:modified xsi:type="dcterms:W3CDTF">2010-08-11T21:52:00Z</dcterms:modified>
  <cp:revision>24</cp:revision>
  <dc:subject/>
  <dc:title>Slide 1</dc:title>
</cp:coreProperties>
</file>